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5fa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685800" y="6299280"/>
            <a:ext cx="343080" cy="2332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1111320" y="6302520"/>
            <a:ext cx="2012760" cy="263520"/>
            <a:chOff x="1111320" y="6302520"/>
            <a:chExt cx="2012760" cy="263520"/>
          </a:xfrm>
        </p:grpSpPr>
        <p:sp>
          <p:nvSpPr>
            <p:cNvPr id="4" name=""/>
            <p:cNvSpPr/>
            <p:nvPr/>
          </p:nvSpPr>
          <p:spPr>
            <a:xfrm>
              <a:off x="1111320" y="6302520"/>
              <a:ext cx="201276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uropean Commiss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nterprise and Indust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111320" y="6302520"/>
              <a:ext cx="2012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111320" y="6566040"/>
              <a:ext cx="2012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111320" y="6302520"/>
              <a:ext cx="0" cy="263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24080" y="6302520"/>
              <a:ext cx="0" cy="263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116000" y="1484280"/>
            <a:ext cx="6913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067280" y="333360"/>
            <a:ext cx="914400" cy="612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39640" y="2781360"/>
            <a:ext cx="799308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SCC CPR meeting 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russels, 5 July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1413000"/>
            <a:ext cx="84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Construction Products Regulation</a:t>
            </a:r>
            <a:r>
              <a:rPr b="1" lang="fr-FR" sz="3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fr-FR" sz="36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fr-FR" sz="2800" spc="-1" strike="noStrike">
                <a:solidFill>
                  <a:srgbClr val="000099"/>
                </a:solidFill>
                <a:latin typeface="Arial"/>
              </a:rPr>
              <a:t>Delegated &amp; Implementing Acts</a:t>
            </a:r>
            <a:r>
              <a:rPr b="1" lang="fr-FR" sz="6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fr-FR" sz="7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-4365720" y="3048120"/>
            <a:ext cx="123840" cy="95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-4365720" y="3200400"/>
            <a:ext cx="123840" cy="95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-4429080" y="2637000"/>
            <a:ext cx="123840" cy="95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-4365720" y="3505320"/>
            <a:ext cx="123840" cy="95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7"/>
          <a:stretch/>
        </p:blipFill>
        <p:spPr>
          <a:xfrm>
            <a:off x="-4365720" y="3809880"/>
            <a:ext cx="123840" cy="95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8"/>
          <a:stretch/>
        </p:blipFill>
        <p:spPr>
          <a:xfrm>
            <a:off x="-4365720" y="3962520"/>
            <a:ext cx="123840" cy="950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84360" y="4724280"/>
            <a:ext cx="8459640" cy="90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. Mikke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ropean Commission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orate-General Enterprise and Industry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t G5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uction, pressure equipment and metr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0099"/>
                </a:solidFill>
                <a:latin typeface="Arial"/>
              </a:rPr>
              <a:t>Delegated Ac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Art 290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: Self-st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«Supplement or amend» «non-essential elements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99cc00"/>
                </a:solidFill>
                <a:latin typeface="Arial"/>
              </a:rPr>
              <a:t>What must be do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C Communication of 9 Dec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mmon Understanding (May 20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cision-making se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5fa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fter consultation of experts from all 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5fa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C decision-m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5fa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P &amp; Council right of obj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0099"/>
                </a:solidFill>
                <a:latin typeface="Arial"/>
              </a:rPr>
              <a:t>CPR delegations (Art 60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5fa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bligatory ess chars &amp; threshold levels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(D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5fa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Supply of D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5fa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mdts to periods of keeping DoP et 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5fa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mts to Annex II &amp; suppl proc rules &amp; Annex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5fa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daptation of Annex III, table 1 of Annex 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5fa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lasses of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5fa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WT/WFT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5fa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VoC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0099"/>
                </a:solidFill>
                <a:latin typeface="Arial"/>
              </a:rPr>
              <a:t>Implementing ac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Art 291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eg 182/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«Uniform conditions for implementation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99cc00"/>
                </a:solidFill>
                <a:latin typeface="Arial"/>
              </a:rPr>
              <a:t>How to do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ifferent procedures in Reg 182/201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6b6b6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f previous «Comitology» under CommDec 1999/468/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rt 64(2) CPR: Advisory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6b6b6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sensus-buil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6b6b6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f necessary, vote by simple majority (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14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/27 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6b6b6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C taking «the utmost account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or CPR, Art 26(3): Format of 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4:43:30Z</dcterms:created>
  <dc:creator>Benoit Goossens</dc:creator>
  <dc:description/>
  <dc:language>en-US</dc:language>
  <cp:lastModifiedBy>MATEOMI</cp:lastModifiedBy>
  <cp:lastPrinted>2008-06-02T19:37:29Z</cp:lastPrinted>
  <dcterms:modified xsi:type="dcterms:W3CDTF">2011-07-04T15:28:07Z</dcterms:modified>
  <cp:revision>174</cp:revision>
  <dc:subject/>
  <dc:title>Présentation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3730951</vt:r8>
  </property>
  <property fmtid="{D5CDD505-2E9C-101B-9397-08002B2CF9AE}" pid="3" name="_AuthorEmail">
    <vt:lpwstr>Tapani.Mikkeli@ec.europa.eu</vt:lpwstr>
  </property>
  <property fmtid="{D5CDD505-2E9C-101B-9397-08002B2CF9AE}" pid="4" name="_AuthorEmailDisplayName">
    <vt:lpwstr>MIKKELI Tapani (ENTR)</vt:lpwstr>
  </property>
  <property fmtid="{D5CDD505-2E9C-101B-9397-08002B2CF9AE}" pid="5" name="_EmailSubject">
    <vt:lpwstr>FinalPresentationSC_RoP.ppt</vt:lpwstr>
  </property>
  <property fmtid="{D5CDD505-2E9C-101B-9397-08002B2CF9AE}" pid="6" name="_NewReviewCycle">
    <vt:lpwstr/>
  </property>
  <property fmtid="{D5CDD505-2E9C-101B-9397-08002B2CF9AE}" pid="7" name="_PreviousAdHocReviewCycleID">
    <vt:r8>-1603182646</vt:r8>
  </property>
</Properties>
</file>